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BA0A0-E048-4E29-B83C-7A0443216E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sldImg"/>
          </p:nvPr>
        </p:nvSpPr>
        <p:spPr>
          <a:xfrm>
            <a:off x="930240" y="741240"/>
            <a:ext cx="4937040" cy="3702240"/>
          </a:xfrm>
          <a:prstGeom prst="rect">
            <a:avLst/>
          </a:prstGeom>
          <a:ln w="0">
            <a:noFill/>
          </a:ln>
        </p:spPr>
      </p:sp>
      <p:sp>
        <p:nvSpPr>
          <p:cNvPr id="67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64F4-A389-4B61-B819-5B0D419D8AD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30240" y="741240"/>
            <a:ext cx="4937040" cy="3702240"/>
          </a:xfrm>
          <a:prstGeom prst="rect">
            <a:avLst/>
          </a:prstGeom>
          <a:ln w="0">
            <a:noFill/>
          </a:ln>
        </p:spPr>
      </p:sp>
      <p:sp>
        <p:nvSpPr>
          <p:cNvPr id="70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6686760-6CFF-42A4-B926-376BE5DE7122}"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930240" y="741240"/>
            <a:ext cx="4937040" cy="3702240"/>
          </a:xfrm>
          <a:prstGeom prst="rect">
            <a:avLst/>
          </a:prstGeom>
          <a:ln w="0">
            <a:noFill/>
          </a:ln>
        </p:spPr>
      </p:sp>
      <p:sp>
        <p:nvSpPr>
          <p:cNvPr id="70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FC7C7-CA70-453C-81A7-004246B8917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930240" y="741240"/>
            <a:ext cx="4937040" cy="3702240"/>
          </a:xfrm>
          <a:prstGeom prst="rect">
            <a:avLst/>
          </a:prstGeom>
          <a:ln w="0">
            <a:noFill/>
          </a:ln>
        </p:spPr>
      </p:sp>
      <p:sp>
        <p:nvSpPr>
          <p:cNvPr id="70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BF4E0-293A-43CE-8946-86C39A6BBE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930240" y="741240"/>
            <a:ext cx="4937040" cy="3702240"/>
          </a:xfrm>
          <a:prstGeom prst="rect">
            <a:avLst/>
          </a:prstGeom>
          <a:ln w="0">
            <a:noFill/>
          </a:ln>
        </p:spPr>
      </p:sp>
      <p:sp>
        <p:nvSpPr>
          <p:cNvPr id="71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8F8A0-79D5-4463-A8A2-941A2753A3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30240" y="741240"/>
            <a:ext cx="4937040" cy="3702240"/>
          </a:xfrm>
          <a:prstGeom prst="rect">
            <a:avLst/>
          </a:prstGeom>
          <a:ln w="0">
            <a:noFill/>
          </a:ln>
        </p:spPr>
      </p:sp>
      <p:sp>
        <p:nvSpPr>
          <p:cNvPr id="71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F67825A-061D-4FCF-9AF8-633613E9C68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930240" y="741240"/>
            <a:ext cx="4937040" cy="3702240"/>
          </a:xfrm>
          <a:prstGeom prst="rect">
            <a:avLst/>
          </a:prstGeom>
          <a:ln w="0">
            <a:noFill/>
          </a:ln>
        </p:spPr>
      </p:sp>
      <p:sp>
        <p:nvSpPr>
          <p:cNvPr id="71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0A1F61A-CB5D-45A4-AD41-06FF6A7C567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930240" y="741240"/>
            <a:ext cx="4937040" cy="3702240"/>
          </a:xfrm>
          <a:prstGeom prst="rect">
            <a:avLst/>
          </a:prstGeom>
          <a:ln w="0">
            <a:noFill/>
          </a:ln>
        </p:spPr>
      </p:sp>
      <p:sp>
        <p:nvSpPr>
          <p:cNvPr id="72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42BF5F5-B83D-4AB6-949C-7E8D0812B0C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930240" y="741240"/>
            <a:ext cx="4937040" cy="3702240"/>
          </a:xfrm>
          <a:prstGeom prst="rect">
            <a:avLst/>
          </a:prstGeom>
          <a:ln w="0">
            <a:noFill/>
          </a:ln>
        </p:spPr>
      </p:sp>
      <p:sp>
        <p:nvSpPr>
          <p:cNvPr id="68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ECE187-A021-4279-8542-A2869A8FCF2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930240" y="741240"/>
            <a:ext cx="4937040" cy="3702240"/>
          </a:xfrm>
          <a:prstGeom prst="rect">
            <a:avLst/>
          </a:prstGeom>
          <a:ln w="0">
            <a:noFill/>
          </a:ln>
        </p:spPr>
      </p:sp>
      <p:sp>
        <p:nvSpPr>
          <p:cNvPr id="68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D254901-EBFE-40B5-800A-31152ECBE4F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30240" y="741240"/>
            <a:ext cx="4937040" cy="3702240"/>
          </a:xfrm>
          <a:prstGeom prst="rect">
            <a:avLst/>
          </a:prstGeom>
          <a:ln w="0">
            <a:noFill/>
          </a:ln>
        </p:spPr>
      </p:sp>
      <p:sp>
        <p:nvSpPr>
          <p:cNvPr id="68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489E353-9D46-4A51-B0C2-199DFF525DA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930240" y="741240"/>
            <a:ext cx="4937040" cy="3702240"/>
          </a:xfrm>
          <a:prstGeom prst="rect">
            <a:avLst/>
          </a:prstGeom>
          <a:ln w="0">
            <a:noFill/>
          </a:ln>
        </p:spPr>
      </p:sp>
      <p:sp>
        <p:nvSpPr>
          <p:cNvPr id="69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B1DC37-7C6B-4165-A9B1-EAF561000C4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30240" y="741240"/>
            <a:ext cx="4937040" cy="3702240"/>
          </a:xfrm>
          <a:prstGeom prst="rect">
            <a:avLst/>
          </a:prstGeom>
          <a:ln w="0">
            <a:noFill/>
          </a:ln>
        </p:spPr>
      </p:sp>
      <p:sp>
        <p:nvSpPr>
          <p:cNvPr id="69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2641A7C-4120-4D82-9FF6-2713D6DD5DB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930240" y="741240"/>
            <a:ext cx="4937040" cy="3702240"/>
          </a:xfrm>
          <a:prstGeom prst="rect">
            <a:avLst/>
          </a:prstGeom>
          <a:ln w="0">
            <a:noFill/>
          </a:ln>
        </p:spPr>
      </p:sp>
      <p:sp>
        <p:nvSpPr>
          <p:cNvPr id="69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831D941-C780-444C-B335-886717C00C65}"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30240" y="741240"/>
            <a:ext cx="4937040" cy="3702240"/>
          </a:xfrm>
          <a:prstGeom prst="rect">
            <a:avLst/>
          </a:prstGeom>
          <a:ln w="0">
            <a:noFill/>
          </a:ln>
        </p:spPr>
      </p:sp>
      <p:sp>
        <p:nvSpPr>
          <p:cNvPr id="70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SimSun"/>
            </a:endParaRPr>
          </a:p>
        </p:txBody>
      </p:sp>
      <p:sp>
        <p:nvSpPr>
          <p:cNvPr id="70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fr-FR" sz="1200" spc="-1" strike="noStrike">
                <a:solidFill>
                  <a:srgbClr val="000000"/>
                </a:solidFill>
                <a:latin typeface="Times New Roman"/>
                <a:ea typeface="SimSun"/>
              </a:rPr>
              <a:t>5</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1A609D-5F40-454B-835C-EC4A7B7807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1B87F01-511B-4730-869A-485431E0026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D6D1C-3220-4FC4-9338-0F624041D37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07E63E-E10B-4837-ACFB-07F4F8083A6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C8594B-6D0B-4C15-8207-9EC04D4051D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47DBAB-92F2-4AA2-BC93-4A0D88D2E1C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B02102-1720-4806-806A-6E7F94420F1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7DAC34-7276-4D4F-9954-56E344EDDF7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C5779C-EB85-444A-923D-44286D64179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F6EB70F-AC65-4CBE-8DFA-3F52396916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39D318-01A2-416F-B7AF-F6DDD5A3794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B05B12F-F009-4B8B-B653-7B144F458C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3E778AB-6239-4292-BDC5-1625689ABB4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2185D0-B99A-4A73-818E-BC024DC9546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83831B2-9C3E-4B71-A96E-C81B0A3DBFD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CCA03ED-A202-4177-B5E6-DBC624D1774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DE8248FA-AC62-4EEC-A741-FC6798C15005}"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E6D4684-2205-4E0B-AD35-69A9BACF714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1965146-06DA-4E98-A61D-FB326267AF0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CE164D1-98FA-40C7-B5ED-600F2C6C235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3F02331-2AB6-48CC-9FBC-68C500D4AE9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457EB7-8274-4F04-89A7-B6360D7080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1EF06974-BEFA-4461-859D-DCDA659BCF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78EBCA-BE10-428F-BE2A-1E8D9008BBB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B614A54-AF41-4EBC-8BBD-1798F6ADD96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CA902E3-6297-427F-A5B2-43EBD543D1B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B1ECC5C-090F-4173-95F3-4D46A199D3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8C2BD86-45BE-4CB0-8F9A-539C4A64F62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0A7A5E5-4091-468E-BD29-162C2686D84B}"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3B49934-628E-49FA-B400-42D57F718C4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60668E1-1EEE-4CF4-8F71-0267A06B02D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5A1C790-7AB8-40D7-95CF-8412FE57BC17}"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60F4F28-081D-4142-84AD-89F93387054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BA70011-A5CB-4365-80C5-6F0BD041A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92A725-E7AD-403B-B617-AD79BE9EA0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DC648C9-AEDF-444F-A8A2-941E7C786D5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3C7ED15-DCB6-4914-A8A7-FDD2C834FF50}"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2E3C0D5-CD22-4B00-95A7-33060B81E70D}"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325623-2A8F-4108-8DC4-8E76F4DEF40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39B78-C143-487F-B226-A27F6C4D30E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17BF5A-9AC7-4AC2-A652-6BB766C51CD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ECDB9F-D3A7-4004-9875-90FA4B00ACE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823D99-56C4-4E8C-AC88-C3D101B713D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3DA28C-5263-4371-9F6B-896C6709C3E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B11AD8-AF21-42ED-B99D-5D5A1D3B2D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5959CF-2F42-4A02-A615-FC457A9E7B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556CD6-988A-4197-92CD-C48418CC49C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EFB3C4-6146-40ED-8E70-2CCBFDFE02DD}"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F7F9C6-DD0D-4D86-8C93-541BFA44BCFE}"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6A4B960-5BF8-45ED-91CE-3743C32E2B6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3C47E99-571C-4B8F-8B6A-2DE00A37675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E04E3F48-6395-45A0-AE09-57CC13D4BD7B}"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737B96C-15D9-48D8-BBDA-F71443A2B1C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6E8B7983-81CE-487F-9622-966830707CBD}"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009C9066-D56E-42E5-BBBA-16568CA145FB}"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1D55B1C5-B063-40AA-A307-4B1601F29E1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596D1-72D5-42E2-ADD1-7D5C2051DC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F9ECCBB-0B45-4994-B041-C30DB5BDCAB0}"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74B4A77-ED90-4F47-9739-DEEB54E2234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606AD5AD-D4D4-4FE5-AFE4-4913E9351A6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D1D1781-FE2F-4087-98E3-ADC98DC5389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FEAD775-43F9-46E8-9DD7-1450EA10EC66}"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94897A7-4F22-4A98-80AE-009D631CF763}"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1DB2B7B-05EE-49CC-90DC-F505A95811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A605B5-1350-41A4-98FC-06FB54C77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BF3A58-923B-4A23-B286-8D64398B4F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4AAD4-87C5-49C5-9496-BD819F0E03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DB1878-76BA-46C8-9331-EE0EA47982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B127DA-511A-4C42-9828-E227F8DDE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23DA5-21E3-4AC5-96E0-CB82A4D78C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7D6B719-9328-48E0-9E2C-F39B6FDA0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47A58B-66DA-4943-8D20-18971B5956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D8AA41-CEBC-4BCE-9507-C30248AE816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F41E64-E773-46C8-AC56-3091C15807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3C80EB8-6B27-41A2-904F-B0DB582B55E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6AAF59E7-6E1E-4488-A3F1-75437F46AAE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BB5DAD22-6971-4528-9AD3-26159BA3BE1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4CFEA17-48E0-4B61-91AE-1A9BC4ABFF1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8805273E-6EA0-4B7A-8D59-1FB5BF246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A29E68-B76A-4924-82EB-6CE8163683E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EF3F2E02-569A-43D0-A479-4965E637D4C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55904FC8-D6EB-40E7-BB41-D28BC0BC42F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F13BA485-22DE-4B2E-8ACF-21255E13BDE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BCB8C761-DA16-462C-94FD-D1EADC0C4980}"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849BE9DB-C741-4EDC-871A-2FA8A71DABC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416FF28A-6104-4BF4-B3DE-5C8D4842A4E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C84DB3F6-D688-4D12-8270-E1CE56F93E5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5864C263-2F90-4CB4-9EDC-38C7F36AE6E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3CC7B0C-A69A-4142-8274-8195D1B4E098}"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2AF537-666E-48EE-A753-73A9BE17902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EC65F4-2134-40B0-B725-977D526ABE2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5D33A0A-C570-433D-B109-9D303AE573F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44E56283-6971-4D04-BEA5-22012A7A5F8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44AF640-48CC-4822-B64F-FB8C364757C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DFB3BB2-66B5-4702-889B-A973A147940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2BA8510-3DCA-4D17-8B3D-9F8337F2B77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1C191E3-F652-4AB7-AC74-6A22FBB7066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427B24A-97A4-4F1F-BDA5-EAB3BF2F3F5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4635441-1EFA-4352-8BC8-172308128C75}"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1E546D5-78B9-4FAF-9300-49317199899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2E6D897C-68B3-4C40-832C-2FC5122FF5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6DB9072-FFDF-4C13-8FA2-96092F2CFBD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3E1D099-7602-4EF8-AC9C-FA3CF5F2D94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AA1FA36-0460-4651-8827-A2DBFA9FCA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173525A-B066-4211-8750-0CB5F9C68DBF}"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869133C-3A87-41A8-9405-BE2C9D1A240E}"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EB540B7-6E73-42C9-AA7A-ACA06415C44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0837DF4-9FF4-49A9-9A44-2B0235E1ED2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7CFB9BB-0BE5-46D2-921B-13070F86E9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4F1E7A3-774F-481D-A0AD-7BA445DC610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CD8127F-163D-4F9E-B31A-E3FE4176A915}"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669A26AD-7116-4104-983D-873D1D8474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7A89C0-40CB-4EAF-90FD-F34AFE75061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2A47EA8-96B9-4025-A63A-E7BB4663000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02D9DBF-73D0-40AD-A101-D7CE3991CC0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CCF5B-A522-42E8-849D-85DBC718B7B6}"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230F7A-8CAA-40C8-9994-F553323D857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2D132D-1B72-4716-97E2-69823EBE46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15C64-C65F-48C3-86B0-4EF137634922}"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F19552-CD20-4C63-B1DF-F0BC0AEB05F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8C965-827C-44FD-BC3B-0136CA66252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91CD1E-8794-4562-A0CB-206A251F291B}"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2F129E-9A9D-4D9B-BEF4-3F4ED07965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E3DD19-00AB-411A-88F2-AECAA06A5F6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011296F-F734-477D-926B-C1D5C4BF4D2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55656A-700C-4A08-B11E-8C23D8F7295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29FF4A-0F9B-45EA-A456-DC49C9BE194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FB4A8F39-1B7F-4CB7-9B0A-70F23A6EDEB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D9B54F-8DBA-4676-AB31-0B1E84170B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71D24BEA-947A-4EF9-A2A4-8D709E7BAA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AC3C5D3-658B-4AB3-B364-A91D6D5D809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C0767F6-9515-435B-8172-1DA9D83A066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0DFA72F-109B-49C9-AAFD-68367FB51EAF}"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6CEC1DC-8AB7-42C3-AC06-23148A77A9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1BF753-E01C-4845-B648-4E6D7564527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D96571F-0C09-4FAA-8286-29B1B3BD718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C243AA-2169-47DC-BCB3-7FC8B59D311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7273EEA6-EAD4-4E18-9411-33F897A6D31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08242EB2-867A-4ED6-A81C-892E5F15A46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A45FBCBF-DC8D-4A56-AAAB-5936EFE62C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995EE6D-1F63-4DA9-807F-A7F0723F0E8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FDC8C26-2808-450A-BF41-DBCFF3AF8EF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D1B50F5-9586-496E-8F7C-00DF49B0E41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48A8B2-B1BD-4CCC-8D8E-44CAA92BD601}"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CD792AF-433D-4BB8-B448-A4065FCE7BC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F995F3-4F51-4CEA-87EC-C486CC171EE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401F55B-9723-4035-ACDB-6F2EFB0017F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E0D6A98-C13A-452B-BE1D-EEFD6A02A6B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E4F97AD-D74C-4239-92C0-1181DFA4F03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D66BA4C-3ECE-4D64-B426-E8782019CE5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6BE3407-1EC0-4B16-96A6-3264E4E0AC5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FC4FDC7-88E5-4AC7-BB8C-30C7A8C9EE9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77D7F4C0-7627-4C5E-88CE-430415DD49B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8446D2-CE94-4307-890F-2FCF2BF8FB7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1D5E01-0F1E-420F-9A77-A1CAA90CA09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076C0F-36BA-4B24-A43F-B3FCBCB169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4EB42-6EA9-45DF-B619-D1152F89EFD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AAC8-54D1-420C-B82A-868496314A20}"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4E75-A37A-41C3-A8FC-C0095F5AA16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2032F-58D2-48E0-8F3C-7DA9E5FC2A7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C0A5E-48FF-40DE-8758-C1BD8B24F72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69383-31AE-4189-954A-E988C93B55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ABCF-3B41-4072-B135-23F937C2985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70543-F8FD-487C-A085-BE730031DDF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7A4C-058F-4782-A785-BEA19CAF9A0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07404-5F79-4C3B-B876-99307A5CA3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D287-4A89-4741-83AF-5F3198EBE2B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B02E5-087B-479C-A644-C364945A151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D5ACA-A586-4D25-B11A-44223BF008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2C144-4A55-42D4-AF31-38453155416A}"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DCE24-39B2-40A6-9DB2-7A0930C242C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3849F-5A83-4EB4-B7A5-1F08B453CEF6}"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45C17-DB3D-4C7C-A401-A60C228558B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5958E-CFDB-44D3-9D99-1786DB15976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8921-E1EC-4265-AFD7-3F0C0308F0B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841D-17A6-45A9-ADC7-8576B1AE376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28613-D74D-49E1-A11F-D7035C450E2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7270-ACC1-4CF0-924F-986B6E6F6EB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B3DCA-0CC2-4AB7-A273-4055156761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EF13-E76D-45E8-8810-3957B3DD03D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67840" y="6478560"/>
            <a:ext cx="269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Equipes d’Intervention Rapide</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C519C-A1A8-42FF-B31A-63AD8BA22D3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ea typeface="SimSun"/>
              </a:rPr>
              <a:t>Formation des</a:t>
            </a:r>
            <a:br>
              <a:rPr sz="3200"/>
            </a:br>
            <a:r>
              <a:rPr b="1" lang="fr-FR" sz="3200" spc="-1" strike="noStrike">
                <a:solidFill>
                  <a:srgbClr val="002060"/>
                </a:solidFill>
                <a:latin typeface="Arial"/>
                <a:ea typeface="SimSun"/>
              </a:rPr>
              <a:t>Équipes d’Intervention Rapide</a:t>
            </a:r>
            <a:br>
              <a:rPr sz="3200"/>
            </a:br>
            <a:r>
              <a:rPr b="1" lang="fr-FR" sz="3200" spc="-1" strike="noStrike">
                <a:solidFill>
                  <a:srgbClr val="002060"/>
                </a:solidFill>
                <a:latin typeface="Arial"/>
                <a:ea typeface="SimSun"/>
              </a:rPr>
              <a:t>à la Maladie à Virus Ebola (MVE) </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2060"/>
                </a:solidFill>
                <a:latin typeface="Arial"/>
                <a:ea typeface="SimSun"/>
              </a:rPr>
              <a:t>Insérer ici dates et lieu de formation</a:t>
            </a:r>
            <a:endParaRPr b="0" lang="en-US" sz="2800" spc="-1" strike="noStrike">
              <a:solidFill>
                <a:srgbClr val="000000"/>
              </a:solidFill>
              <a:latin typeface="Calibri"/>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7" name="TextBox 1"/>
          <p:cNvSpPr/>
          <p:nvPr/>
        </p:nvSpPr>
        <p:spPr>
          <a:xfrm>
            <a:off x="1745280" y="4687920"/>
            <a:ext cx="56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SimSun"/>
              </a:rPr>
              <a:t>Présentation de la forma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Mise à jour: 22/06/2018</a:t>
            </a:r>
            <a:endParaRPr b="0" lang="en-US" sz="1400" spc="-1" strike="noStrike">
              <a:solidFill>
                <a:srgbClr val="000000"/>
              </a:solidFill>
              <a:latin typeface="Calibri"/>
            </a:endParaRPr>
          </a:p>
        </p:txBody>
      </p:sp>
      <p:sp>
        <p:nvSpPr>
          <p:cNvPr id="619"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érer logo du pays/institution</a:t>
            </a:r>
            <a:endParaRPr b="0" lang="en-US" sz="1800" spc="-1" strike="noStrike">
              <a:solidFill>
                <a:srgbClr val="000000"/>
              </a:solidFill>
              <a:latin typeface="Calibri"/>
            </a:endParaRPr>
          </a:p>
        </p:txBody>
      </p:sp>
      <p:pic>
        <p:nvPicPr>
          <p:cNvPr id="620" name="Picture 1" descr=""/>
          <p:cNvPicPr/>
          <p:nvPr/>
        </p:nvPicPr>
        <p:blipFill>
          <a:blip r:embed="rId1"/>
          <a:stretch/>
        </p:blipFill>
        <p:spPr>
          <a:xfrm>
            <a:off x="157320" y="260280"/>
            <a:ext cx="2311200" cy="584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36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u des unités d’apprentissage</a:t>
            </a:r>
            <a:endParaRPr b="0" lang="en-US" sz="3600" spc="-1" strike="noStrike">
              <a:solidFill>
                <a:srgbClr val="632523"/>
              </a:solidFill>
              <a:latin typeface="Arial"/>
            </a:endParaRPr>
          </a:p>
        </p:txBody>
      </p:sp>
      <p:sp>
        <p:nvSpPr>
          <p:cNvPr id="645" name="Rounded Rectangle 13"/>
          <p:cNvSpPr/>
          <p:nvPr/>
        </p:nvSpPr>
        <p:spPr>
          <a:xfrm>
            <a:off x="4562640" y="1031760"/>
            <a:ext cx="4505040" cy="331488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ITE C: Exercice pratiqu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1 L’EIR mobil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2 A l’hôpital: interview avec le personnel médic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3 A l’hôpital: interview avec la patient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4 Communication et engagement communautair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5 Recherche active des cas et des contac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6 Inhumation digne et sécurisé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7 Rapport d’investigation</a:t>
            </a:r>
            <a:endParaRPr b="0" lang="en-US" sz="1600" spc="-1" strike="noStrike">
              <a:solidFill>
                <a:srgbClr val="000000"/>
              </a:solidFill>
              <a:latin typeface="Calibri"/>
            </a:endParaRPr>
          </a:p>
        </p:txBody>
      </p:sp>
      <p:sp>
        <p:nvSpPr>
          <p:cNvPr id="646" name="Rounded Rectangle 9"/>
          <p:cNvSpPr/>
          <p:nvPr/>
        </p:nvSpPr>
        <p:spPr>
          <a:xfrm>
            <a:off x="66600" y="2819520"/>
            <a:ext cx="4481640" cy="329220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Unité B: Modules techn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 Épidémiologie de base en santé publ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2 Surveillance épidémiologique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3 Gestion des donné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4 Investigation épidémiologiqu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5 Évaluation rapide des ris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6 Prévention et Contrôle des Infec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7 Gestion d’échantillons de laborato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8 Mobilisation sociale et engagement communautair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9 Communications des risques en situation d'urgen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0 Premiers secours psychologiqu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B11 Inhumation digne et sécurisée</a:t>
            </a:r>
            <a:endParaRPr b="0" lang="en-US" sz="1500" spc="-1" strike="noStrike">
              <a:solidFill>
                <a:srgbClr val="000000"/>
              </a:solidFill>
              <a:latin typeface="Calibri"/>
            </a:endParaRPr>
          </a:p>
        </p:txBody>
      </p:sp>
      <p:sp>
        <p:nvSpPr>
          <p:cNvPr id="647"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Calibri"/>
              </a:rPr>
              <a:t>UNITE D: Evaluation et suivi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1 Satisfaction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2 Apprentissag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D3 Transfert des apprentissages</a:t>
            </a:r>
            <a:endParaRPr b="0" lang="en-US" sz="1500" spc="-1" strike="noStrike">
              <a:solidFill>
                <a:srgbClr val="000000"/>
              </a:solidFill>
              <a:latin typeface="Calibri"/>
            </a:endParaRPr>
          </a:p>
        </p:txBody>
      </p:sp>
      <p:sp>
        <p:nvSpPr>
          <p:cNvPr id="648" name="Rounded Rectangle 16"/>
          <p:cNvSpPr/>
          <p:nvPr/>
        </p:nvSpPr>
        <p:spPr>
          <a:xfrm>
            <a:off x="63360" y="91440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ea typeface="SimSun"/>
              </a:rPr>
              <a:t>UNITE A: L’EIR en context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1 Sécurité sanitaire, SIMR et RSI</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2 Équipes d‘Intervention Rapide : fonctionnement et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3 Déploiement et besoins logistiqu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ea typeface="SimSun"/>
              </a:rPr>
              <a:t>A4 Livrables clé de l’EIR</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5 Santé et sécurité de base au travail</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A6 COUS et Système de Gestion des Incident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8"/>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6"/>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5"/>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9" name="Title 1" descr=""/>
          <p:cNvPicPr/>
          <p:nvPr/>
        </p:nvPicPr>
        <p:blipFill>
          <a:blip r:embed="rId1"/>
          <a:stretch/>
        </p:blipFill>
        <p:spPr>
          <a:xfrm>
            <a:off x="0" y="274680"/>
            <a:ext cx="9144000" cy="1103400"/>
          </a:xfrm>
          <a:prstGeom prst="rect">
            <a:avLst/>
          </a:prstGeom>
          <a:ln w="0">
            <a:noFill/>
          </a:ln>
        </p:spPr>
      </p:pic>
      <p:graphicFrame>
        <p:nvGraphicFramePr>
          <p:cNvPr id="650"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4 + Débriefing</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A: L’EIR en context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7</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Exercice pratique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ésentation rap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é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1" name="TextBox 12"/>
          <p:cNvSpPr/>
          <p:nvPr/>
        </p:nvSpPr>
        <p:spPr>
          <a:xfrm>
            <a:off x="7359480" y="5094360"/>
            <a:ext cx="1279800" cy="73332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 D1-D3 Evaluation et suivi</a:t>
            </a:r>
            <a:endParaRPr b="0" lang="en-US" sz="1400" spc="-1" strike="noStrike">
              <a:solidFill>
                <a:srgbClr val="000000"/>
              </a:solidFill>
              <a:latin typeface="Calibri"/>
            </a:endParaRPr>
          </a:p>
        </p:txBody>
      </p:sp>
      <p:sp>
        <p:nvSpPr>
          <p:cNvPr id="652" name="TextBox 15"/>
          <p:cNvSpPr/>
          <p:nvPr/>
        </p:nvSpPr>
        <p:spPr>
          <a:xfrm>
            <a:off x="1863720" y="5695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3"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 </a:t>
            </a: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4"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
        <p:nvSpPr>
          <p:cNvPr id="655"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Unité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2"/>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5"/>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0" y="274680"/>
            <a:ext cx="9144000" cy="1103400"/>
          </a:xfrm>
          <a:prstGeom prst="rect">
            <a:avLst/>
          </a:prstGeom>
          <a:ln w="0">
            <a:noFill/>
          </a:ln>
        </p:spPr>
      </p:pic>
      <p:graphicFrame>
        <p:nvGraphicFramePr>
          <p:cNvPr id="657"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 </a:t>
                      </a:r>
                      <a:r>
                        <a:rPr b="0" lang="en-GB"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t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près-midi</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8"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A: L’EIR en contexte</a:t>
            </a:r>
            <a:endParaRPr b="0" lang="en-US" sz="1800" spc="-1" strike="noStrike">
              <a:solidFill>
                <a:srgbClr val="000000"/>
              </a:solidFill>
              <a:latin typeface="Calibri"/>
            </a:endParaRPr>
          </a:p>
        </p:txBody>
      </p:sp>
      <p:sp>
        <p:nvSpPr>
          <p:cNvPr id="659"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Unité B: Modules techniques</a:t>
            </a:r>
            <a:endParaRPr b="0" lang="en-US" sz="1800" spc="-1" strike="noStrike">
              <a:solidFill>
                <a:srgbClr val="000000"/>
              </a:solidFill>
              <a:latin typeface="Calibri"/>
            </a:endParaRPr>
          </a:p>
        </p:txBody>
      </p:sp>
      <p:sp>
        <p:nvSpPr>
          <p:cNvPr id="660"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 D1-D3 Evaluation et suivi</a:t>
            </a:r>
            <a:endParaRPr b="0" lang="en-US" sz="1500" spc="-1" strike="noStrike">
              <a:solidFill>
                <a:srgbClr val="000000"/>
              </a:solidFill>
              <a:latin typeface="Calibri"/>
            </a:endParaRPr>
          </a:p>
        </p:txBody>
      </p:sp>
      <p:sp>
        <p:nvSpPr>
          <p:cNvPr id="661"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nité C: Exercice pratique</a:t>
            </a:r>
            <a:endParaRPr b="0" lang="en-US" sz="1800" spc="-1" strike="noStrike">
              <a:solidFill>
                <a:srgbClr val="000000"/>
              </a:solidFill>
              <a:latin typeface="Calibri"/>
            </a:endParaRPr>
          </a:p>
        </p:txBody>
      </p:sp>
      <p:sp>
        <p:nvSpPr>
          <p:cNvPr id="662"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7</a:t>
            </a:r>
            <a:endParaRPr b="0" lang="en-US" sz="1800" spc="-1" strike="noStrike">
              <a:solidFill>
                <a:srgbClr val="000000"/>
              </a:solidFill>
              <a:latin typeface="Calibri"/>
            </a:endParaRPr>
          </a:p>
        </p:txBody>
      </p:sp>
      <p:sp>
        <p:nvSpPr>
          <p:cNvPr id="663"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5</a:t>
            </a:r>
            <a:endParaRPr b="0" lang="en-US" sz="1800" spc="-1" strike="noStrike">
              <a:solidFill>
                <a:srgbClr val="000000"/>
              </a:solidFill>
              <a:latin typeface="Calibri"/>
            </a:endParaRPr>
          </a:p>
        </p:txBody>
      </p:sp>
      <p:sp>
        <p:nvSpPr>
          <p:cNvPr id="664"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5"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6"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 </a:t>
            </a: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7"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
        <p:nvSpPr>
          <p:cNvPr id="668"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Unité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8"/>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3"/>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9"/>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4"/>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61"/>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2"/>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5"/>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6"/>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7"/>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8"/>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36400" y="133200"/>
            <a:ext cx="8229600" cy="1519560"/>
          </a:xfrm>
          <a:prstGeom prst="rect">
            <a:avLst/>
          </a:prstGeom>
          <a:ln w="0">
            <a:noFill/>
          </a:ln>
        </p:spPr>
      </p:pic>
      <p:graphicFrame>
        <p:nvGraphicFramePr>
          <p:cNvPr id="670" name=""/>
          <p:cNvGraphicFramePr/>
          <p:nvPr/>
        </p:nvGraphicFramePr>
        <p:xfrm>
          <a:off x="457200" y="1419120"/>
          <a:ext cx="8229600" cy="4600800"/>
        </p:xfrm>
        <a:graphic>
          <a:graphicData uri="http://schemas.openxmlformats.org/drawingml/2006/table">
            <a:tbl>
              <a:tblPr/>
              <a:tblGrid>
                <a:gridCol w="1614600"/>
                <a:gridCol w="3314520"/>
                <a:gridCol w="3300480"/>
              </a:tblGrid>
              <a:tr h="3970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Jour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ati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1 EIR mobilisé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6 Inhumation digne et sécurisée</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82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7 rapport d’investigation</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0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près-midi</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3/4 – </a:t>
                      </a:r>
                      <a:r>
                        <a:rPr b="0" lang="fr-FR" sz="1500" spc="-1" strike="noStrike">
                          <a:solidFill>
                            <a:srgbClr val="000000"/>
                          </a:solidFill>
                          <a:latin typeface="Calibri"/>
                        </a:rPr>
                        <a:t>C2 Interview avec le personnel médical</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 </a:t>
                      </a:r>
                      <a:r>
                        <a:rPr b="0" lang="fr-FR" sz="1500" spc="-1" strike="noStrike">
                          <a:solidFill>
                            <a:srgbClr val="000000"/>
                          </a:solidFill>
                          <a:latin typeface="Calibri"/>
                        </a:rPr>
                        <a:t>– C3 Interview avec la patient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Présentation et débriefing</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Toutes les EIR</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4 Communication et engagement communautaire</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Calibri"/>
                        </a:rPr>
                        <a:t>EIR 1/2/3/4 - Rotations</a:t>
                      </a:r>
                      <a:endParaRPr b="0" lang="en-US" sz="15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Calibri"/>
                        </a:rPr>
                        <a:t>C5 Recherche active des cas et des contacts</a:t>
                      </a:r>
                      <a:endParaRPr b="0" lang="en-US" sz="15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tre à l'heur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teindre les téléphones portabl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Écouter et participe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Exprimer ce qu’on pens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Poser des questions quand quelque chose n’est pas clair</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Respecter les opinions des autr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ea typeface="SimSun"/>
              </a:rPr>
              <a:t>…</a:t>
            </a:r>
            <a:endParaRPr b="0" lang="en-US" sz="2400" spc="-1" strike="noStrike">
              <a:solidFill>
                <a:srgbClr val="10253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Règles de base</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3" name="Content Placeholder 1" descr=""/>
          <p:cNvPicPr/>
          <p:nvPr/>
        </p:nvPicPr>
        <p:blipFill>
          <a:blip r:embed="rId1"/>
          <a:stretch/>
        </p:blipFill>
        <p:spPr>
          <a:xfrm>
            <a:off x="378000" y="1407960"/>
            <a:ext cx="8308800" cy="3926160"/>
          </a:xfrm>
          <a:prstGeom prst="rect">
            <a:avLst/>
          </a:prstGeom>
          <a:ln w="0">
            <a:noFill/>
          </a:ln>
        </p:spPr>
      </p:pic>
      <p:sp>
        <p:nvSpPr>
          <p:cNvPr id="67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Informations divers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67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bjectifs de la session</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es participants et les facilitateu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objectif de la formation et les objectifs opérationnel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a structure et le contenu de la formation</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résenter l’agenda</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ire des règles de base et des informations d'ordre administratif</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lan de la session</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ésenta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But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bjectifs opérationnel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A</a:t>
            </a:r>
            <a:r>
              <a:rPr b="0" lang="en-US" sz="2800" spc="-1" strike="noStrike">
                <a:solidFill>
                  <a:srgbClr val="002060"/>
                </a:solidFill>
                <a:latin typeface="Arial"/>
              </a:rPr>
              <a:t>perçu de la formation</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R</a:t>
            </a:r>
            <a:r>
              <a:rPr b="0" lang="en-US" sz="2800" spc="-1" strike="noStrike">
                <a:solidFill>
                  <a:srgbClr val="002060"/>
                </a:solidFill>
                <a:latin typeface="Arial"/>
              </a:rPr>
              <a:t>ègles de base</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formations diverse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Présenta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e facilitateur commencepar se présenter de cette manière : avant de donner son nom, il donne l’une de ses qualités qui commence par la même lettre que la première lettre de son prénom.</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le facilitateur s’appelle </a:t>
            </a:r>
            <a:r>
              <a:rPr b="1" lang="fr-FR" sz="2000" spc="-1" strike="noStrike">
                <a:solidFill>
                  <a:srgbClr val="e46c0a"/>
                </a:solidFill>
                <a:latin typeface="Arial"/>
              </a:rPr>
              <a:t>A</a:t>
            </a:r>
            <a:r>
              <a:rPr b="0" lang="fr-FR" sz="2000" spc="-1" strike="noStrike">
                <a:solidFill>
                  <a:srgbClr val="e46c0a"/>
                </a:solidFill>
                <a:latin typeface="Arial"/>
              </a:rPr>
              <a:t>mr, il peut dire : « </a:t>
            </a:r>
            <a:r>
              <a:rPr b="1" lang="fr-FR" sz="2000" spc="-1" strike="noStrike">
                <a:solidFill>
                  <a:srgbClr val="e46c0a"/>
                </a:solidFill>
                <a:latin typeface="Arial"/>
              </a:rPr>
              <a:t>A</a:t>
            </a:r>
            <a:r>
              <a:rPr b="0" lang="fr-FR" sz="2000" spc="-1" strike="noStrike">
                <a:solidFill>
                  <a:srgbClr val="e46c0a"/>
                </a:solidFill>
                <a:latin typeface="Arial"/>
              </a:rPr>
              <a:t>mr </a:t>
            </a:r>
            <a:r>
              <a:rPr b="1" lang="fr-FR" sz="2000" spc="-1" strike="noStrike">
                <a:solidFill>
                  <a:srgbClr val="e46c0a"/>
                </a:solidFill>
                <a:latin typeface="Arial"/>
              </a:rPr>
              <a:t>A</a:t>
            </a:r>
            <a:r>
              <a:rPr b="0" lang="fr-FR" sz="2000" spc="-1" strike="noStrike">
                <a:solidFill>
                  <a:srgbClr val="e46c0a"/>
                </a:solidFill>
                <a:latin typeface="Arial"/>
              </a:rPr>
              <a:t>musant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e trouvant à sa droite répète ce qu’il vient de dire et se présente de la même manièr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rPr>
              <a:t>Example: « Amr Amusant, Paula Pragmatique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La personne suivante répète ce que le dernier participant vient de dire juste avant elle, en ajoutant son prénom et sa qualité…et ainsi de suit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But de la formation</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ea typeface="SimSun"/>
              </a:rPr>
              <a:t>La formation des Équipes d’Intervention Rapide (EIR) à la Maladie à Virus Ebola (EVE) vise à renforcer l'aptitude et les compétences de ces équipes pluridisciplinaires ainsi que de leurs membres à </a:t>
            </a:r>
            <a:r>
              <a:rPr b="0" lang="fr-FR" sz="2800" spc="-1" strike="noStrike">
                <a:solidFill>
                  <a:srgbClr val="e46c0a"/>
                </a:solidFill>
                <a:latin typeface="Arial"/>
                <a:ea typeface="SimSun"/>
              </a:rPr>
              <a:t>détecter rapidement </a:t>
            </a:r>
            <a:r>
              <a:rPr b="0" lang="fr-FR" sz="2800" spc="-1" strike="noStrike">
                <a:solidFill>
                  <a:srgbClr val="002060"/>
                </a:solidFill>
                <a:latin typeface="Arial"/>
                <a:ea typeface="SimSun"/>
              </a:rPr>
              <a:t>et à </a:t>
            </a:r>
            <a:r>
              <a:rPr b="0" lang="fr-FR" sz="2800" spc="-1" strike="noStrike">
                <a:solidFill>
                  <a:srgbClr val="e46c0a"/>
                </a:solidFill>
                <a:latin typeface="Arial"/>
                <a:ea typeface="SimSun"/>
              </a:rPr>
              <a:t>riposter efficacement </a:t>
            </a:r>
            <a:r>
              <a:rPr b="0" lang="fr-FR" sz="2800" spc="-1" strike="noStrike">
                <a:solidFill>
                  <a:srgbClr val="002060"/>
                </a:solidFill>
                <a:latin typeface="Arial"/>
                <a:ea typeface="SimSun"/>
              </a:rPr>
              <a:t>à un début d’épidémie de MV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1)</a:t>
            </a:r>
            <a:endParaRPr b="0" lang="en-US" sz="3600" spc="-1" strike="noStrike">
              <a:solidFill>
                <a:srgbClr val="632523"/>
              </a:solidFill>
              <a:latin typeface="Arial"/>
            </a:endParaRPr>
          </a:p>
        </p:txBody>
      </p:sp>
      <p:sp>
        <p:nvSpPr>
          <p:cNvPr id="630" name=""/>
          <p:cNvSpPr txBox="1"/>
          <p:nvPr/>
        </p:nvSpPr>
        <p:spPr>
          <a:xfrm>
            <a:off x="228600" y="1371600"/>
            <a:ext cx="8686800" cy="5410080"/>
          </a:xfrm>
          <a:prstGeom prst="rect">
            <a:avLst/>
          </a:prstGeom>
          <a:noFill/>
          <a:ln w="0">
            <a:noFill/>
          </a:ln>
        </p:spPr>
        <p:txBody>
          <a:bodyPr anchor="t">
            <a:normAutofit/>
          </a:bodyPr>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Cette formation dispense aux participants les connaissances et les compétences nécessaires pour qu'ils puissent :</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éserver </a:t>
            </a:r>
            <a:r>
              <a:rPr b="0" lang="fr-FR" sz="2000" spc="-1" strike="noStrike">
                <a:solidFill>
                  <a:srgbClr val="e46c0a"/>
                </a:solidFill>
                <a:latin typeface="Arial"/>
              </a:rPr>
              <a:t>leur santé et leur sécurité </a:t>
            </a:r>
            <a:r>
              <a:rPr b="0" lang="fr-FR" sz="2000" spc="-1" strike="noStrike">
                <a:solidFill>
                  <a:srgbClr val="002060"/>
                </a:solidFill>
                <a:latin typeface="Arial"/>
              </a:rPr>
              <a:t>dans le contexte d’une flambée de MV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Agir en tant qu'</a:t>
            </a:r>
            <a:r>
              <a:rPr b="0" lang="fr-FR" sz="2000" spc="-1" strike="noStrike">
                <a:solidFill>
                  <a:srgbClr val="e46c0a"/>
                </a:solidFill>
                <a:latin typeface="Arial"/>
                <a:ea typeface="SimSun"/>
              </a:rPr>
              <a:t>équipe pluridisciplinaire fonctionnelle </a:t>
            </a:r>
            <a:r>
              <a:rPr b="0" lang="fr-FR" sz="2000" spc="-1" strike="noStrike">
                <a:solidFill>
                  <a:srgbClr val="002060"/>
                </a:solidFill>
                <a:latin typeface="Arial"/>
                <a:ea typeface="SimSun"/>
              </a:rPr>
              <a:t>quand les autorités sanitaires publiques compétentes feront appel à eux.</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Procéder à une </a:t>
            </a:r>
            <a:r>
              <a:rPr b="0" lang="fr-FR" sz="2000" spc="-1" strike="noStrike">
                <a:solidFill>
                  <a:srgbClr val="e46c0a"/>
                </a:solidFill>
                <a:latin typeface="Arial"/>
              </a:rPr>
              <a:t>évaluation rapide des risques </a:t>
            </a:r>
            <a:r>
              <a:rPr b="0" lang="fr-FR" sz="2000" spc="-1" strike="noStrike">
                <a:solidFill>
                  <a:srgbClr val="002060"/>
                </a:solidFill>
                <a:latin typeface="Arial"/>
              </a:rPr>
              <a:t>et de déterminer si une flambée de MVE doit être considérée comme une menace pour la santé publique.</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Optimiser </a:t>
            </a:r>
            <a:r>
              <a:rPr b="0" lang="fr-FR" sz="2000" spc="-1" strike="noStrike">
                <a:solidFill>
                  <a:srgbClr val="e46c0a"/>
                </a:solidFill>
                <a:latin typeface="Arial"/>
                <a:ea typeface="SimSun"/>
              </a:rPr>
              <a:t>les activités de surveillance </a:t>
            </a:r>
            <a:r>
              <a:rPr b="0" lang="fr-FR" sz="2000" spc="-1" strike="noStrike">
                <a:solidFill>
                  <a:srgbClr val="002060"/>
                </a:solidFill>
                <a:latin typeface="Arial"/>
                <a:ea typeface="SimSun"/>
              </a:rPr>
              <a:t>et dûment </a:t>
            </a:r>
            <a:r>
              <a:rPr b="0" lang="fr-FR" sz="2000" spc="-1" strike="noStrike">
                <a:solidFill>
                  <a:srgbClr val="e46c0a"/>
                </a:solidFill>
                <a:latin typeface="Arial"/>
                <a:ea typeface="SimSun"/>
              </a:rPr>
              <a:t>gérer les données</a:t>
            </a:r>
            <a:r>
              <a:rPr b="0" lang="fr-FR" sz="2000" spc="-1" strike="noStrike">
                <a:solidFill>
                  <a:srgbClr val="002060"/>
                </a:solidFill>
                <a:latin typeface="Arial"/>
                <a:ea typeface="SimSun"/>
              </a:rPr>
              <a:t>.</a:t>
            </a:r>
            <a:endParaRPr b="0" lang="en-US" sz="2000" spc="-1" strike="noStrike">
              <a:solidFill>
                <a:srgbClr val="10253f"/>
              </a:solidFill>
              <a:latin typeface="Arial"/>
            </a:endParaRPr>
          </a:p>
          <a:p>
            <a:pPr>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enquêtes épidémiologiques </a:t>
            </a:r>
            <a:r>
              <a:rPr b="0" lang="fr-FR" sz="2000" spc="-1" strike="noStrike">
                <a:solidFill>
                  <a:srgbClr val="002060"/>
                </a:solidFill>
                <a:latin typeface="Arial"/>
                <a:ea typeface="SimSun"/>
              </a:rPr>
              <a:t>sur les cas suspects de MVE pour confirmer ou infirmer une flambée épidémique.</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bjectifs opérationnels (2)</a:t>
            </a:r>
            <a:endParaRPr b="0" lang="en-US" sz="3600" spc="-1" strike="noStrike">
              <a:solidFill>
                <a:srgbClr val="632523"/>
              </a:solidFill>
              <a:latin typeface="Arial"/>
            </a:endParaRPr>
          </a:p>
        </p:txBody>
      </p:sp>
      <p:sp>
        <p:nvSpPr>
          <p:cNvPr id="632" name=""/>
          <p:cNvSpPr txBox="1"/>
          <p:nvPr/>
        </p:nvSpPr>
        <p:spPr>
          <a:xfrm>
            <a:off x="228600" y="1371600"/>
            <a:ext cx="8686800" cy="5410080"/>
          </a:xfrm>
          <a:prstGeom prst="rect">
            <a:avLst/>
          </a:prstGeom>
          <a:noFill/>
          <a:ln w="0">
            <a:noFill/>
          </a:ln>
        </p:spPr>
        <p:txBody>
          <a:bodyPr anchor="t">
            <a:normAutofit/>
          </a:bodyPr>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ttre en œuvre les bonnes </a:t>
            </a:r>
            <a:r>
              <a:rPr b="0" lang="fr-FR" sz="2000" spc="-1" strike="noStrike">
                <a:solidFill>
                  <a:srgbClr val="e46c0a"/>
                </a:solidFill>
                <a:latin typeface="Arial"/>
                <a:ea typeface="SimSun"/>
              </a:rPr>
              <a:t>mesures de prévention et de lutte contre les infections </a:t>
            </a:r>
            <a:r>
              <a:rPr b="0" lang="fr-FR" sz="2000" spc="-1" strike="noStrike">
                <a:solidFill>
                  <a:srgbClr val="002060"/>
                </a:solidFill>
                <a:latin typeface="Arial"/>
                <a:ea typeface="SimSun"/>
              </a:rPr>
              <a:t>en toutes circonstanc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Effectuer </a:t>
            </a:r>
            <a:r>
              <a:rPr b="0" lang="fr-FR" sz="2000" spc="-1" strike="noStrike">
                <a:solidFill>
                  <a:srgbClr val="e46c0a"/>
                </a:solidFill>
                <a:latin typeface="Arial"/>
                <a:ea typeface="SimSun"/>
              </a:rPr>
              <a:t>des prélèvements sanguins sans risque</a:t>
            </a:r>
            <a:r>
              <a:rPr b="0" lang="fr-FR" sz="2000" spc="-1" strike="noStrike">
                <a:solidFill>
                  <a:srgbClr val="002060"/>
                </a:solidFill>
                <a:latin typeface="Arial"/>
                <a:ea typeface="SimSun"/>
              </a:rPr>
              <a:t> de cas suspects de MVE et les conditionner pour le transport au laboratoire de référence.</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Mener </a:t>
            </a:r>
            <a:r>
              <a:rPr b="0" lang="fr-FR" sz="2000" spc="-1" strike="noStrike">
                <a:solidFill>
                  <a:srgbClr val="e46c0a"/>
                </a:solidFill>
                <a:latin typeface="Arial"/>
                <a:ea typeface="SimSun"/>
              </a:rPr>
              <a:t>des recherches de contacts </a:t>
            </a:r>
            <a:r>
              <a:rPr b="0" lang="fr-FR" sz="2000" spc="-1" strike="noStrike">
                <a:solidFill>
                  <a:srgbClr val="002060"/>
                </a:solidFill>
                <a:latin typeface="Arial"/>
                <a:ea typeface="SimSun"/>
              </a:rPr>
              <a:t>en vue de lutter efficacement contre une éventuelle flambée de MVE.</a:t>
            </a:r>
            <a:endParaRPr b="0" lang="en-US" sz="2000" spc="-1" strike="noStrike">
              <a:solidFill>
                <a:srgbClr val="10253f"/>
              </a:solidFill>
              <a:latin typeface="Arial"/>
            </a:endParaRPr>
          </a:p>
          <a:p>
            <a:pPr marL="343080" indent="-343080">
              <a:spcAft>
                <a:spcPts val="601"/>
              </a:spcAft>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46c0a"/>
                </a:solidFill>
                <a:latin typeface="Arial"/>
                <a:ea typeface="SimSun"/>
              </a:rPr>
              <a:t>Éduquer les communautés et créer un dialogue </a:t>
            </a:r>
            <a:r>
              <a:rPr b="0" lang="fr-FR" sz="2000" spc="-1" strike="noStrike">
                <a:solidFill>
                  <a:srgbClr val="002060"/>
                </a:solidFill>
                <a:latin typeface="Arial"/>
                <a:ea typeface="SimSun"/>
              </a:rPr>
              <a:t>avec elles.</a:t>
            </a:r>
            <a:endParaRPr b="0" lang="en-US" sz="2000" spc="-1" strike="noStrike">
              <a:solidFill>
                <a:srgbClr val="10253f"/>
              </a:solidFill>
              <a:latin typeface="Arial"/>
            </a:endParaRPr>
          </a:p>
          <a:p>
            <a:pPr marL="343080" indent="-343080">
              <a:spcAft>
                <a:spcPts val="601"/>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ea typeface="SimSun"/>
              </a:rPr>
              <a:t>Inhumer </a:t>
            </a:r>
            <a:r>
              <a:rPr b="0" lang="fr-FR" sz="2000" spc="-1" strike="noStrike">
                <a:solidFill>
                  <a:srgbClr val="e46c0a"/>
                </a:solidFill>
                <a:latin typeface="Arial"/>
                <a:ea typeface="SimSun"/>
              </a:rPr>
              <a:t>sans risque et dans la dignité </a:t>
            </a:r>
            <a:r>
              <a:rPr b="0" lang="fr-FR" sz="2000" spc="-1" strike="noStrike">
                <a:solidFill>
                  <a:srgbClr val="002060"/>
                </a:solidFill>
                <a:latin typeface="Arial"/>
                <a:ea typeface="SimSun"/>
              </a:rPr>
              <a:t>les patients ayant succombé dans le cadre d’une épidémie de MVE.</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Aperçu de la formation</a:t>
            </a:r>
            <a:endParaRPr b="0" lang="en-US" sz="3600" spc="-1" strike="noStrike">
              <a:solidFill>
                <a:srgbClr val="632523"/>
              </a:solidFill>
              <a:latin typeface="Arial"/>
            </a:endParaRPr>
          </a:p>
        </p:txBody>
      </p:sp>
      <p:sp>
        <p:nvSpPr>
          <p:cNvPr id="63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5 journée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35 heures d’apprentissage</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4 unités d’apprentissage, avec:</a:t>
            </a:r>
            <a:endParaRPr b="0" lang="en-US" sz="24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A: l’EIR dans son contexte</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B: Modules techniques</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C: Exercice pratique basé sur un scénario</a:t>
            </a:r>
            <a:endParaRPr b="0" lang="en-US" sz="2000" spc="-1" strike="noStrike">
              <a:solidFill>
                <a:srgbClr val="10253f"/>
              </a:solidFill>
              <a:latin typeface="Arial"/>
            </a:endParaRPr>
          </a:p>
          <a:p>
            <a:pPr lvl="2" marL="1143000" indent="-228600">
              <a:spcBef>
                <a:spcPts val="499"/>
              </a:spcBef>
              <a:buClr>
                <a:srgbClr val="002060"/>
              </a:buClr>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2060"/>
                </a:solidFill>
                <a:latin typeface="Arial"/>
              </a:rPr>
              <a:t>Unité D: Evaluation et suivi</a:t>
            </a:r>
            <a:endParaRPr b="0" lang="en-US" sz="20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es méthodologies participatives combinant des présentations d’experts avec des travaux de groupe et un exercice pratique permettant de mettre en pratique ses connaissances et les tester.</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0" y="151920"/>
            <a:ext cx="9144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ea typeface="SimSun"/>
              </a:rPr>
              <a:t>Objectif des unités d'apprentissage</a:t>
            </a:r>
            <a:endParaRPr b="0" lang="en-US" sz="3600" spc="-1" strike="noStrike">
              <a:solidFill>
                <a:srgbClr val="632523"/>
              </a:solidFill>
              <a:latin typeface="Arial"/>
            </a:endParaRPr>
          </a:p>
        </p:txBody>
      </p:sp>
      <p:sp>
        <p:nvSpPr>
          <p:cNvPr id="636" name="Rounded Rectangle 2"/>
          <p:cNvSpPr/>
          <p:nvPr/>
        </p:nvSpPr>
        <p:spPr>
          <a:xfrm>
            <a:off x="450720" y="1376280"/>
            <a:ext cx="329580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A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LES ÉQUIPES D'INTERVENTION RAPIDE EN CONTEXTE</a:t>
            </a:r>
            <a:endParaRPr b="0" lang="en-US" sz="1600" spc="-1" strike="noStrike">
              <a:solidFill>
                <a:srgbClr val="000000"/>
              </a:solidFill>
              <a:latin typeface="Calibri"/>
            </a:endParaRPr>
          </a:p>
        </p:txBody>
      </p:sp>
      <p:sp>
        <p:nvSpPr>
          <p:cNvPr id="637" name="Rounded Rectangle 23"/>
          <p:cNvSpPr/>
          <p:nvPr/>
        </p:nvSpPr>
        <p:spPr>
          <a:xfrm>
            <a:off x="458640" y="2581200"/>
            <a:ext cx="327996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UNITÉ B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ea typeface="SimSun"/>
              </a:rPr>
              <a:t>MODULES TECHNIQUES</a:t>
            </a:r>
            <a:endParaRPr b="0" lang="en-US" sz="1600" spc="-1" strike="noStrike">
              <a:solidFill>
                <a:srgbClr val="000000"/>
              </a:solidFill>
              <a:latin typeface="Calibri"/>
            </a:endParaRPr>
          </a:p>
        </p:txBody>
      </p:sp>
      <p:sp>
        <p:nvSpPr>
          <p:cNvPr id="638" name="Rounded Rectangle 24"/>
          <p:cNvSpPr/>
          <p:nvPr/>
        </p:nvSpPr>
        <p:spPr>
          <a:xfrm>
            <a:off x="473040" y="3787920"/>
            <a:ext cx="325296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C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XERCICE PRATIQUE BASÉ SUR UN SCÉNARIO</a:t>
            </a:r>
            <a:endParaRPr b="0" lang="en-US" sz="1600" spc="-1" strike="noStrike">
              <a:solidFill>
                <a:srgbClr val="000000"/>
              </a:solidFill>
              <a:latin typeface="Calibri"/>
            </a:endParaRPr>
          </a:p>
        </p:txBody>
      </p:sp>
      <p:sp>
        <p:nvSpPr>
          <p:cNvPr id="639" name="Rounded Rectangle 25"/>
          <p:cNvSpPr/>
          <p:nvPr/>
        </p:nvSpPr>
        <p:spPr>
          <a:xfrm>
            <a:off x="479520" y="4992840"/>
            <a:ext cx="324000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UNITÉ D :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SimSun"/>
              </a:rPr>
              <a:t>EVALUATION ET SUIVI</a:t>
            </a:r>
            <a:endParaRPr b="0" lang="en-US" sz="1600" spc="-1" strike="noStrike">
              <a:solidFill>
                <a:srgbClr val="000000"/>
              </a:solidFill>
              <a:latin typeface="Calibri"/>
            </a:endParaRPr>
          </a:p>
        </p:txBody>
      </p:sp>
      <p:sp>
        <p:nvSpPr>
          <p:cNvPr id="640" name="TextBox 16"/>
          <p:cNvSpPr/>
          <p:nvPr/>
        </p:nvSpPr>
        <p:spPr>
          <a:xfrm>
            <a:off x="3962520" y="12193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Être prêt pour le déploiement sur le terrain, bien comprendre les mécanismes de coordination d'urgence nationaux, le rôle des EIR ainsi que les responsabilités de chaque membre et identifier les parties prenantes de ces équipes sur le terrain.</a:t>
            </a:r>
            <a:endParaRPr b="0" lang="en-US" sz="1400" spc="-1" strike="noStrike">
              <a:solidFill>
                <a:srgbClr val="000000"/>
              </a:solidFill>
              <a:latin typeface="Calibri"/>
            </a:endParaRPr>
          </a:p>
        </p:txBody>
      </p:sp>
      <p:sp>
        <p:nvSpPr>
          <p:cNvPr id="641" name="TextBox 29"/>
          <p:cNvSpPr/>
          <p:nvPr/>
        </p:nvSpPr>
        <p:spPr>
          <a:xfrm>
            <a:off x="3962520" y="2662200"/>
            <a:ext cx="5181480" cy="5202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Consolider les connaissances et les compétences des participants dans des domaines techniques pertinents.</a:t>
            </a:r>
            <a:endParaRPr b="0" lang="en-US" sz="1400" spc="-1" strike="noStrike">
              <a:solidFill>
                <a:srgbClr val="000000"/>
              </a:solidFill>
              <a:latin typeface="Calibri"/>
            </a:endParaRPr>
          </a:p>
        </p:txBody>
      </p:sp>
      <p:sp>
        <p:nvSpPr>
          <p:cNvPr id="642" name="TextBox 32"/>
          <p:cNvSpPr/>
          <p:nvPr/>
        </p:nvSpPr>
        <p:spPr>
          <a:xfrm>
            <a:off x="3962520" y="3676680"/>
            <a:ext cx="51814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Appliquer et mettre en pratique les connaissances et compétences dans les différents domaines techniques  </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Évaluer l'apprentissage du participant par l'observation</a:t>
            </a:r>
            <a:endParaRPr b="0" lang="en-US" sz="1400" spc="-1" strike="noStrike">
              <a:solidFill>
                <a:srgbClr val="000000"/>
              </a:solidFill>
              <a:latin typeface="Calibri"/>
            </a:endParaRPr>
          </a:p>
        </p:txBody>
      </p:sp>
      <p:sp>
        <p:nvSpPr>
          <p:cNvPr id="643" name="TextBox 34"/>
          <p:cNvSpPr/>
          <p:nvPr/>
        </p:nvSpPr>
        <p:spPr>
          <a:xfrm>
            <a:off x="3962520" y="4903920"/>
            <a:ext cx="5181480" cy="9464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Retenir les points d'apprentissage clé et prévoir comment les appliquer de retour sur le terrain.</a:t>
            </a:r>
            <a:endParaRPr b="0" lang="en-US" sz="14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SimSun"/>
              </a:rPr>
              <a:t>Savoir comment poursuivre l'apprentissage continu et le travail en réseau après la formation des EI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40"/>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4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8"/>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9"/>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06-22T12:09:51Z</dcterms:modified>
  <cp:revision>218</cp:revision>
  <dc:subject/>
  <dc:title>Threats to Global Health Security (GHS): Case for further investments in International Health Regulations (IHR)</dc:title>
</cp:coreProperties>
</file>